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91388-5A43-43A4-95E2-56936FA8A2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10E88-9CDA-4536-991E-BC906A2D3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21FA5-1395-4674-A63C-77FF498ECF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FE0-9524-458F-9652-CD67DD00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7FA-847C-47E4-929D-0631A3D7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E37F2-9739-4E4B-AAA6-89BB185D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7528A-D935-41A2-A882-02A5D250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5D15F-2FA4-431C-8BC8-7AF02437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C69AD-ADCE-4576-8CAC-F91D3E48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8F52A-92C4-4080-BF3B-D04E534B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030D1-D3CF-4124-83E5-63C994E2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1955C-F24F-44B0-B546-F95C44D0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8599A-582C-43B7-950E-1503C952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CA96C-7EDF-4FA7-B5B7-69111F1F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8B3E3-1C52-47D9-A2C2-05CC4B15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498-5551-4716-A171-B712301A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94292-F451-4698-BE27-8179EDF6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321A9-7186-4ADF-9276-20F3F50E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0E3AC-5BF6-4F2F-ADE6-64955C2C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4F761-0682-4130-A4B1-27DFA757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6154C-5D60-4D45-823B-5F2B3EA8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85AC0-C19C-4C68-8A0C-AE590A20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3745A-8ED9-405E-944D-93BFC34B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93F3C-F246-4BF2-A520-AFB66FEB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11866-9533-4493-BCC6-14A31F6D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29C1C-68B6-420C-96C4-4A5140C3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7A5-F331-475E-A183-09F76B95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B4937-BE0C-4F2C-8B32-3288CD83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F1CF2-557C-47A3-9FB5-972CE93B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8DF3A-21F9-4BED-87FD-0A5BC59C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DDBD0-1020-4B54-AF6C-F5D88CFA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01998-C885-4662-A923-E05FCDB6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92B43-714B-485A-950D-DC08DC11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4451B-843C-46E4-9A73-5F0CE575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D2320-DDBB-41C6-835D-C4407BD2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7E858-2DB0-497E-B5DB-EA0E8E64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0EA11-6B69-494C-A363-4C2D2B3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04E0-AE89-4729-A6F7-A94F394F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EFBBF-F652-4777-AE9E-9EBC8134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6DCC2-E5FF-4F7F-B7F5-CA281357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CD2F2-A871-4DE9-8FF6-B51CE29F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FF4EF-5FBC-4F2C-BCE0-006BF672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C259B-00D3-42B2-80CE-FE2CCC09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23D2B-2066-464A-AD55-33C9B4B5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191A4-A637-4503-BA54-95299AC1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56F54-9D98-4CD2-9F1E-5D2D522E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07FB3-2E9A-46B2-B346-5CF287F7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A0E60-9389-45D4-B6A6-2E57B7C2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185F-EF43-48DE-A737-159FDDC6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6C900-BB61-4937-906E-2D9FA5B6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5205D-B19E-4044-A02C-5EC349FF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E77FE-2A70-433A-83CF-AB7F7A7C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6FA9A-AD58-4252-8E73-077F220F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CD945-9E0F-4D3F-8F46-B5E76382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B81E1-4E21-4077-9D32-47BADBB8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A7C36-418F-4A37-8026-67A4FBAF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4F497-926D-4DEC-9282-BBD530BC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B24BA-E808-49A6-9389-BCB15091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599E2-E13C-49EC-A02F-51B5F47D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9031-E32B-4550-900C-33553F8D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16C9C-95AF-455E-A2D9-52BD0FCE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1AF46-79EB-490B-9BA4-B8B1685A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B895F-ADB9-4730-A1B9-BA072929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0FC11-6C94-466A-BFD1-8A7EEC33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6ADAB-BE06-4D33-A6DB-19461816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F1F07-DC70-4AEB-BC57-58B32099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A5CCB-7EE1-4B96-A014-53D0828D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DC732-82B6-441E-A773-6AE76422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126AB-3092-4AB3-84B5-568C3339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AAC309-73A3-4788-A83F-158AF84C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C8B5-8D76-419E-B2DB-C2442E62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645DD-1B09-4563-A2B9-F7E41E99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29E2B-B36D-4063-9165-DFEC1C7C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FF3152-E228-4FE2-9FBC-E7BB4B85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CB527-0220-49BD-B9E1-677092A9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31672-3244-425E-B36B-B776AED4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64E18F-3C82-4BCD-BBA3-95DF9D49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B3545-A496-4C47-99F4-6DCEA265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A64E5-1DA1-42A7-B03D-7B7FE3CC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DCE8C-B44F-49C8-AC17-0F472C5E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B40B3-EF1D-4C2E-B3A0-0DCACC7B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B921-846D-4AF4-96FC-B15DCBB0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A7A058-643B-4347-AEDD-AFE0209D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B6BF0-D503-4497-8812-F8D3BC29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11B3FB-1089-4800-875D-F4490306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96F941-F0A7-411B-A7AC-D4D8B3EC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AFCE4-0759-4884-BF13-F731CB46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F1E367-5310-4713-B8FA-9C578889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EFB0CF-27A7-48E7-B5D5-EEE131AA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303F2-53CD-4F7E-9D00-C2A7355B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483D25-C71D-426C-87D8-66A85798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22813-8D0A-4D86-AE41-8CA910FE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E6E5-5C99-414E-84A3-C79A929C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9973F4-3A95-4350-A90C-31B8DE9D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FD2A-E2AE-4E54-B3A1-7B824923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0DC-0DC3-424E-B0C5-34CF6DC5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645B-F48E-42A1-99FF-35FA0CB5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1B5C-C6F1-4A9A-AEB6-6BEDECEA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19D2-B3E6-49D8-9B76-7F1C8F2A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5EE6-729D-4327-86A6-888481AE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5802-7EB3-4287-A059-88AD2371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6268-64C5-4B12-BDFA-C0889612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0764-2D8C-4194-8C52-8F1222BE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4F28F-AF38-4597-860B-C1B6743E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2DFCB-F98C-4DC2-B415-77E4AE78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2F1C-DAC5-41D0-B795-CCE4E4A7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577-ABC5-4338-8863-0800E18D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F4A98-AB78-4030-A202-12955A5A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1115C-648A-4F16-AB57-5DBBD645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97876-66E6-4C9B-BA3F-ADBD1E04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B30B-E009-4553-AE1C-CF872A40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7EE1F-0404-4E3C-9AAC-20B1541C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EACB1-89F1-47FF-9E31-F90103B6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2EE8-85F7-4560-BF99-12FE4E33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417BF-3D79-4D1C-979E-3F855DCB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72EDF-7449-41A0-B599-6AFE142E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EB569-871E-4B7E-9C40-0EAE4B7E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6A9-F5D7-464E-A1C8-484518BF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1C13C-4DBA-42D4-87D7-D70FD6F6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D233C-AB44-4A0D-9257-DB055136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B763D-E9DD-494B-8172-68B6BF29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5273D-0186-4D0E-994B-335BCF78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45ECB-8589-457F-B45C-5149EC24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B2517-43F0-41FA-911B-30A1C2FF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AEBBF-AC80-4944-A497-ECE47218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949A8-F52F-410D-BDB3-BFF71401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08659-4D22-4183-BA31-02469AB5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D4162-9ECE-466A-B096-5F05EC8E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B6C-9FE1-4EBE-8CA8-6D46A692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AFC9A-3B4F-4E52-B2BB-A8BBB903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24017-A62F-4B60-BC6D-7647BFC9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D7CC3-F44B-4674-B340-65B32A18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282ED-5CFF-4D9D-A1C6-714946A2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72F3E-4D78-4C1B-905C-8FDDE761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B7CED-05B3-4177-9B67-7DB2695A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F836F-F805-4E16-8901-6682BD30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56FE5-7D56-4BB6-A0A1-240E7356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022D8-98E2-46C7-8407-99FA9B70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107B8-00AA-4690-BBD9-09AFE317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5AAD-FBC2-4459-93DE-286B56B4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DDCF5-B105-4AC6-BB8B-3F7EE10F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2D9CD-D7E5-42A4-B9CD-1072DAB6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0E8E8-AD84-494D-9321-E9950F7D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78FEC-60A9-4A53-9EF3-F662FD78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36F09-AB12-488A-863F-999ED501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ACA4F-B1EC-449C-ACD2-50158963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0B849-D0A3-4F8F-90F0-B318FA33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E91D7-C916-457B-90E9-918CE0B4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709CE-9408-4EE0-A1B8-46B35593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50283-293F-4526-B9A9-58CD1BC0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200-A9EA-4399-91DC-1CEA6F7D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6E5BD-A800-460A-B3D8-171F44E0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CDECA-1B8D-47B0-AABD-258A7994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ACEA1-C288-4C45-A503-F004F7C3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BCCFF-2F3B-4916-86AC-C41AF4A5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48DA7-8AB6-4065-B0A7-551710CC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535AD-0982-4398-9128-16D608C5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700E5-7B6B-4FCD-958E-8C2A21CE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92EA2-E1FA-4642-94BD-EAE774B6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23891-33CE-4BE1-9A8C-FC279861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52A28-498D-4B4E-B034-1A3DDC29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B58-A657-4CF4-B717-49DB433D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5A63E-4E04-4279-AF6A-D62D9501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36A3D-C995-4782-94D3-94A3816B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5D69A-1011-4C36-9B9C-FB6DE97E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600EB-A2CA-43D3-855C-37700D2C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E472C-EF74-44AB-B4D1-2AF22C47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195C6-9026-419E-A2E3-9A6EE357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446F0-461B-4623-A673-81B76486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F52D5-02AA-410C-868D-75BD4AFD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34C12-279D-495E-9A44-43704042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E5A86-EEF6-4902-A326-81F581B7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D36-49FE-4B8C-88D4-AF3C0DBF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21EED-F944-4105-98CD-61931037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DFBDE-D0E0-4454-908E-1F3F6C3B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28F74-0F6D-4411-9A30-D3E050E1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9FE69-32CC-435D-BD1A-811E39FF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28E11-0546-421C-86D7-A27ADAE5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DDF23-CB53-46BB-A54B-8788513C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2E24B-C55D-4058-A83D-0FFF2406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A3EB7-3C42-4D6F-88A9-2293E3BE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F9E75-FF58-4AEE-97D0-4D3B419F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70D41-3C8A-4DD3-AA4E-9B38C68F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34C5D-9CB8-4F77-A17F-208831725D33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161F5-F7D6-468F-96ED-C02C704C0672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shortRule.png"/>
          <p:cNvPicPr/>
          <p:nvPr/>
        </p:nvPicPr>
        <p:blipFill>
          <a:blip r:embed="rId4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6BECC-A939-484D-8DFA-43ED8085B33E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769D9-D768-4602-B922-2632F276AAA7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parAvion.png"/>
          <p:cNvPicPr/>
          <p:nvPr/>
        </p:nvPicPr>
        <p:blipFill>
          <a:blip r:embed="rId4"/>
          <a:stretch/>
        </p:blipFill>
        <p:spPr>
          <a:xfrm rot="307800">
            <a:off x="6835680" y="279000"/>
            <a:ext cx="1695600" cy="484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shortRule.png"/>
          <p:cNvPicPr/>
          <p:nvPr/>
        </p:nvPicPr>
        <p:blipFill>
          <a:blip r:embed="rId5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436" name="Picture 10" descr="parAvion.png"/>
          <p:cNvPicPr/>
          <p:nvPr/>
        </p:nvPicPr>
        <p:blipFill>
          <a:blip r:embed="rId6"/>
          <a:stretch/>
        </p:blipFill>
        <p:spPr>
          <a:xfrm rot="20785200">
            <a:off x="2865600" y="3182400"/>
            <a:ext cx="1697040" cy="4842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E392D-0695-4E0A-B608-95B7659FA4FF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38A2E-F8B6-4ECB-ABB9-528AD1BA5368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14F4E-98C1-40A6-85C2-4980D25C1A57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9431F-7D49-4A98-AEA0-CF6B5D79AFB3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parAvion.png"/>
          <p:cNvPicPr/>
          <p:nvPr/>
        </p:nvPicPr>
        <p:blipFill>
          <a:blip r:embed="rId4"/>
          <a:stretch/>
        </p:blipFill>
        <p:spPr>
          <a:xfrm rot="307800">
            <a:off x="7427880" y="2619000"/>
            <a:ext cx="1581120" cy="450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" descr="pictureStamp-Frame.png"/>
          <p:cNvPicPr/>
          <p:nvPr/>
        </p:nvPicPr>
        <p:blipFill>
          <a:blip r:embed="rId5"/>
          <a:stretch/>
        </p:blipFill>
        <p:spPr>
          <a:xfrm rot="322200">
            <a:off x="6338880" y="604800"/>
            <a:ext cx="1611360" cy="202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0" descr="pictureStamp-Frame.png"/>
          <p:cNvPicPr/>
          <p:nvPr/>
        </p:nvPicPr>
        <p:blipFill>
          <a:blip r:embed="rId6"/>
          <a:stretch/>
        </p:blipFill>
        <p:spPr>
          <a:xfrm rot="322200">
            <a:off x="4890960" y="985680"/>
            <a:ext cx="1611360" cy="2024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3CDE1-B684-441C-AB07-EA66C2126127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84711-2C67-43F2-988B-D7A794BB811D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ADB2A-C806-49FC-82F1-F067BF01F1E0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363E4-5FE4-4081-BA7C-A8EA3F123B39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verticalRule.png"/>
          <p:cNvPicPr/>
          <p:nvPr/>
        </p:nvPicPr>
        <p:blipFill>
          <a:blip r:embed="rId4"/>
          <a:stretch/>
        </p:blipFill>
        <p:spPr>
          <a:xfrm>
            <a:off x="6513480" y="1562040"/>
            <a:ext cx="152280" cy="3733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D2E21-FA8E-4853-BB01-750730131FC6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D481C-27B4-4DAA-A1CD-82ACA94E3B4D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78BA7-7DEB-4AA3-AD5A-A4846CA14B80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875F8-DFB6-429F-A608-C37F94E3F860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477D6-E9D1-4DB2-AD56-F6E1551235A2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BC90C-79A5-417F-B70C-4896FCCFC81F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57200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30" name="Picture 9" descr="pictureStamp-Frame.png"/>
          <p:cNvPicPr/>
          <p:nvPr/>
        </p:nvPicPr>
        <p:blipFill>
          <a:blip r:embed="rId5"/>
          <a:stretch/>
        </p:blipFill>
        <p:spPr>
          <a:xfrm rot="21366600">
            <a:off x="5138280" y="59976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pictureStamp-Frame.png"/>
          <p:cNvPicPr/>
          <p:nvPr/>
        </p:nvPicPr>
        <p:blipFill>
          <a:blip r:embed="rId6"/>
          <a:stretch/>
        </p:blipFill>
        <p:spPr>
          <a:xfrm rot="21329400">
            <a:off x="2073240" y="55548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pictureStamp-Frame.png"/>
          <p:cNvPicPr/>
          <p:nvPr/>
        </p:nvPicPr>
        <p:blipFill>
          <a:blip r:embed="rId7"/>
          <a:stretch/>
        </p:blipFill>
        <p:spPr>
          <a:xfrm rot="151200">
            <a:off x="3592440" y="936360"/>
            <a:ext cx="1609920" cy="202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AFE9E-89CF-4751-A452-E2EA211E8BCD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C6B78-9256-4971-80A9-3049CC7F483A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33526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42A7E-0B9D-418E-9007-C7EFB6F553FC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65710-9408-424B-9F12-2096E5C431AA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34701-E001-48E0-8318-C28E0A990694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1A9D7-16CA-4E21-90CC-405DF57756C8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5E7C4-D468-4F41-BE2D-46841A2AFF04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D6154-CD03-405D-874F-A6B00ABA428E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38C43-03D3-4C28-9B5B-ABD13A331F0F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7BC25-E37F-441D-8491-5206934E71C9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348" name="Picture 8" descr="parAvion.png"/>
          <p:cNvPicPr/>
          <p:nvPr/>
        </p:nvPicPr>
        <p:blipFill>
          <a:blip r:embed="rId5"/>
          <a:stretch/>
        </p:blipFill>
        <p:spPr>
          <a:xfrm rot="307800">
            <a:off x="6797160" y="537840"/>
            <a:ext cx="1808280" cy="5173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42DA9-A697-426E-858B-531DCACC5437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D64F0-2C46-456B-BF69-E05EE408FF1A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 rot="685200">
            <a:off x="2216880" y="-779400"/>
            <a:ext cx="8001000" cy="24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pple Casual"/>
                <a:ea typeface="Apple Casual"/>
              </a:rPr>
              <a:t>Madeleine Albright</a:t>
            </a:r>
            <a:endParaRPr b="0" lang="en-US" sz="5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 rot="20979000">
            <a:off x="2863080" y="48189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pple Casual"/>
                <a:ea typeface="Apple Casual"/>
              </a:rPr>
              <a:t>Immigrant Research 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pple Casual"/>
                <a:ea typeface="Apple Casual"/>
              </a:rPr>
              <a:t>By: Caroline Field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60" name="Picture 3" descr="Albrightmadeleine.jpg"/>
          <p:cNvPicPr/>
          <p:nvPr/>
        </p:nvPicPr>
        <p:blipFill>
          <a:blip r:embed="rId2"/>
          <a:stretch/>
        </p:blipFill>
        <p:spPr>
          <a:xfrm>
            <a:off x="652320" y="1371600"/>
            <a:ext cx="4038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Interesting facts about Madeleine…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89" name="Content Placeholder 3" descr="tn_jewish700.gif"/>
          <p:cNvPicPr/>
          <p:nvPr/>
        </p:nvPicPr>
        <p:blipFill>
          <a:blip r:embed="rId2"/>
          <a:srcRect l="-46221" t="0" r="-46221" b="0"/>
          <a:stretch/>
        </p:blipFill>
        <p:spPr>
          <a:xfrm rot="20949600">
            <a:off x="0" y="1143000"/>
            <a:ext cx="2743200" cy="1411200"/>
          </a:xfrm>
          <a:prstGeom prst="rect">
            <a:avLst/>
          </a:prstGeom>
          <a:ln w="0">
            <a:noFill/>
          </a:ln>
        </p:spPr>
      </p:pic>
      <p:sp>
        <p:nvSpPr>
          <p:cNvPr id="690" name="TextBox 4"/>
          <p:cNvSpPr/>
          <p:nvPr/>
        </p:nvSpPr>
        <p:spPr>
          <a:xfrm>
            <a:off x="2851200" y="2286000"/>
            <a:ext cx="263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he did not know she was Jewish and that her grandparents died in a concentration camp until the 1990’s.  This is interesting because she ran away from the Nazis before she knew she was Jewish.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Bibliography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571680" y="190512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pple Casual"/>
                <a:ea typeface="Apple Casual"/>
              </a:rPr>
              <a:t>Encyclopedia of World Biography online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pple Casual"/>
                <a:ea typeface="Apple Casual"/>
              </a:rPr>
              <a:t>Madamsecretary.com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pple Casual"/>
                <a:ea typeface="Apple Casual"/>
              </a:rPr>
              <a:t>kids.yahoo.com/search?p=+madeleine+albright&amp;x=0&amp;y=0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93" name="Picture 3" descr="Clipart-Cartoon-Design-01.gif"/>
          <p:cNvPicPr/>
          <p:nvPr/>
        </p:nvPicPr>
        <p:blipFill>
          <a:blip r:embed="rId2"/>
          <a:stretch/>
        </p:blipFill>
        <p:spPr>
          <a:xfrm rot="1234800">
            <a:off x="6814800" y="507600"/>
            <a:ext cx="18190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Date of Birth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  <a:ea typeface="Apple Casual"/>
              </a:rPr>
              <a:t>Madeleine Albright was born on May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pple Casual"/>
                <a:ea typeface="Apple Casu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  <a:ea typeface="Apple Casual"/>
              </a:rPr>
              <a:t>, 1937.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  <a:ea typeface="Apple Casual"/>
              </a:rPr>
              <a:t>Interesting fact: This is also my birthday (except for the year)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63" name="Picture 3" descr="birthday_cake.jpg"/>
          <p:cNvPicPr/>
          <p:nvPr/>
        </p:nvPicPr>
        <p:blipFill>
          <a:blip r:embed="rId2"/>
          <a:stretch/>
        </p:blipFill>
        <p:spPr>
          <a:xfrm>
            <a:off x="6629400" y="4343400"/>
            <a:ext cx="218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Why Madeleine left her </a:t>
            </a: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home country…      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65" name="Content Placeholder 3" descr="czech-flag.jpg"/>
          <p:cNvPicPr/>
          <p:nvPr/>
        </p:nvPicPr>
        <p:blipFill>
          <a:blip r:embed="rId2"/>
          <a:srcRect l="-14803" t="0" r="-14803" b="0"/>
          <a:stretch/>
        </p:blipFill>
        <p:spPr>
          <a:xfrm rot="20335800">
            <a:off x="156960" y="1193400"/>
            <a:ext cx="2652480" cy="13636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" descr="american-flag.gif"/>
          <p:cNvPicPr/>
          <p:nvPr/>
        </p:nvPicPr>
        <p:blipFill>
          <a:blip r:embed="rId3"/>
          <a:stretch/>
        </p:blipFill>
        <p:spPr>
          <a:xfrm rot="2052600">
            <a:off x="6876720" y="2319120"/>
            <a:ext cx="2070000" cy="1339560"/>
          </a:xfrm>
          <a:prstGeom prst="rect">
            <a:avLst/>
          </a:prstGeom>
          <a:ln w="0">
            <a:noFill/>
          </a:ln>
        </p:spPr>
      </p:pic>
      <p:sp>
        <p:nvSpPr>
          <p:cNvPr id="667" name="TextBox 5"/>
          <p:cNvSpPr/>
          <p:nvPr/>
        </p:nvSpPr>
        <p:spPr>
          <a:xfrm>
            <a:off x="1143000" y="3276720"/>
            <a:ext cx="5791320" cy="916920"/>
          </a:xfrm>
          <a:prstGeom prst="rect">
            <a:avLst/>
          </a:prstGeom>
          <a:solidFill>
            <a:srgbClr val="c2e8c4"/>
          </a:solidFill>
          <a:ln w="25560">
            <a:solidFill>
              <a:srgbClr val="8ea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he left her home country because the Nazis were invading and it was a hard time where she lived and that’s the only way she would be safe.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When did Madeleine immigrate…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69" name="Content Placeholder 3" descr="madeline.jpg"/>
          <p:cNvPicPr/>
          <p:nvPr/>
        </p:nvPicPr>
        <p:blipFill>
          <a:blip r:embed="rId2"/>
          <a:srcRect l="-91684" t="0" r="-91684" b="0"/>
          <a:stretch/>
        </p:blipFill>
        <p:spPr>
          <a:xfrm rot="21140400">
            <a:off x="-1746360" y="3553920"/>
            <a:ext cx="6527880" cy="2984760"/>
          </a:xfrm>
          <a:prstGeom prst="rect">
            <a:avLst/>
          </a:prstGeom>
          <a:ln w="0">
            <a:noFill/>
          </a:ln>
        </p:spPr>
      </p:pic>
      <p:sp>
        <p:nvSpPr>
          <p:cNvPr id="670" name="TextBox 4"/>
          <p:cNvSpPr/>
          <p:nvPr/>
        </p:nvSpPr>
        <p:spPr>
          <a:xfrm>
            <a:off x="3276720" y="3352680"/>
            <a:ext cx="5486400" cy="642600"/>
          </a:xfrm>
          <a:prstGeom prst="rect">
            <a:avLst/>
          </a:prstGeom>
          <a:solidFill>
            <a:srgbClr val="8c73d0"/>
          </a:solidFill>
          <a:ln w="25560">
            <a:solidFill>
              <a:srgbClr val="6553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he came to the united states when she was 11 in 1948.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How Madeleine traveled to America…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72" name="Content Placeholder 3" descr="ship-83.gif"/>
          <p:cNvPicPr/>
          <p:nvPr/>
        </p:nvPicPr>
        <p:blipFill>
          <a:blip r:embed="rId2"/>
          <a:srcRect l="-45198" t="0" r="-45198" b="0"/>
          <a:stretch/>
        </p:blipFill>
        <p:spPr>
          <a:xfrm rot="900600">
            <a:off x="5757840" y="1236240"/>
            <a:ext cx="3924360" cy="2017800"/>
          </a:xfrm>
          <a:prstGeom prst="rect">
            <a:avLst/>
          </a:prstGeom>
          <a:ln w="0">
            <a:noFill/>
          </a:ln>
        </p:spPr>
      </p:pic>
      <p:sp>
        <p:nvSpPr>
          <p:cNvPr id="673" name="TextBox 4"/>
          <p:cNvSpPr/>
          <p:nvPr/>
        </p:nvSpPr>
        <p:spPr>
          <a:xfrm>
            <a:off x="1447920" y="3505320"/>
            <a:ext cx="4114800" cy="642600"/>
          </a:xfrm>
          <a:prstGeom prst="rect">
            <a:avLst/>
          </a:prstGeom>
          <a:solidFill>
            <a:srgbClr val="c5a6e8"/>
          </a:solidFill>
          <a:ln w="25560">
            <a:solidFill>
              <a:srgbClr val="9079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he probably came on a boat but research does not say.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Madeleine’s life before America…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75" name="Content Placeholder 3" descr="ReligionPolitics-764331.jpg"/>
          <p:cNvPicPr/>
          <p:nvPr/>
        </p:nvPicPr>
        <p:blipFill>
          <a:blip r:embed="rId2"/>
          <a:srcRect l="-27772" t="0" r="-27772" b="0"/>
          <a:stretch/>
        </p:blipFill>
        <p:spPr>
          <a:xfrm>
            <a:off x="5334120" y="9144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76" name="TextBox 4" descr=""/>
          <p:cNvPicPr/>
          <p:nvPr/>
        </p:nvPicPr>
        <p:blipFill>
          <a:blip r:embed="rId3"/>
          <a:stretch/>
        </p:blipFill>
        <p:spPr>
          <a:xfrm>
            <a:off x="1616040" y="3133800"/>
            <a:ext cx="387036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1320" y="7617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Challenges Madeleine faced when she came to America…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78" name="Content Placeholder 3" descr="393812.jpg"/>
          <p:cNvPicPr/>
          <p:nvPr/>
        </p:nvPicPr>
        <p:blipFill>
          <a:blip r:embed="rId2"/>
          <a:srcRect l="-26552" t="0" r="-26552" b="0"/>
          <a:stretch/>
        </p:blipFill>
        <p:spPr>
          <a:xfrm>
            <a:off x="2571840" y="4800600"/>
            <a:ext cx="4000320" cy="2057400"/>
          </a:xfrm>
          <a:prstGeom prst="rect">
            <a:avLst/>
          </a:prstGeom>
          <a:ln w="0">
            <a:noFill/>
          </a:ln>
        </p:spPr>
      </p:pic>
      <p:pic>
        <p:nvPicPr>
          <p:cNvPr id="679" name="TextBox 4" descr=""/>
          <p:cNvPicPr/>
          <p:nvPr/>
        </p:nvPicPr>
        <p:blipFill>
          <a:blip r:embed="rId3"/>
          <a:stretch/>
        </p:blipFill>
        <p:spPr>
          <a:xfrm>
            <a:off x="3067200" y="2298600"/>
            <a:ext cx="325440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Madeleine overcoming challenges…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81" name="Content Placeholder 3" descr="school-clipart.jpg"/>
          <p:cNvPicPr/>
          <p:nvPr/>
        </p:nvPicPr>
        <p:blipFill>
          <a:blip r:embed="rId2"/>
          <a:srcRect l="-35551" t="0" r="-35551" b="0"/>
          <a:stretch/>
        </p:blipFill>
        <p:spPr>
          <a:xfrm rot="20636400">
            <a:off x="-490320" y="1128600"/>
            <a:ext cx="3780000" cy="1944720"/>
          </a:xfrm>
          <a:prstGeom prst="rect">
            <a:avLst/>
          </a:prstGeom>
          <a:ln w="0">
            <a:noFill/>
          </a:ln>
        </p:spPr>
      </p:pic>
      <p:grpSp>
        <p:nvGrpSpPr>
          <p:cNvPr id="682" name="TextBox 4"/>
          <p:cNvGrpSpPr/>
          <p:nvPr/>
        </p:nvGrpSpPr>
        <p:grpSpPr>
          <a:xfrm>
            <a:off x="3011400" y="1762200"/>
            <a:ext cx="3786120" cy="1359000"/>
            <a:chOff x="3011400" y="1762200"/>
            <a:chExt cx="3786120" cy="1359000"/>
          </a:xfrm>
        </p:grpSpPr>
        <p:pic>
          <p:nvPicPr>
            <p:cNvPr id="683" name="TextBox 4" descr=""/>
            <p:cNvPicPr/>
            <p:nvPr/>
          </p:nvPicPr>
          <p:blipFill>
            <a:blip r:embed="rId3"/>
            <a:stretch/>
          </p:blipFill>
          <p:spPr>
            <a:xfrm>
              <a:off x="3011400" y="1762200"/>
              <a:ext cx="378612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3124080" y="1828800"/>
              <a:ext cx="358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sto MT"/>
                </a:rPr>
                <a:t>She overcame challenges by going to school and collage and her education helped her become successful in politics. </a:t>
              </a:r>
              <a:endParaRPr b="0" lang="en-US" sz="1800" spc="-1" strike="noStrike">
                <a:solidFill>
                  <a:srgbClr val="ffffff"/>
                </a:solidFill>
                <a:latin typeface="Calisto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71320" y="914400"/>
            <a:ext cx="8001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How Madeleine contributed to U.S. culture… 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86" name="Content Placeholder 3" descr="politics032608_fullsize_story1.jpg"/>
          <p:cNvPicPr/>
          <p:nvPr/>
        </p:nvPicPr>
        <p:blipFill>
          <a:blip r:embed="rId2"/>
          <a:srcRect l="-23006" t="0" r="-23006" b="0"/>
          <a:stretch/>
        </p:blipFill>
        <p:spPr>
          <a:xfrm>
            <a:off x="6019920" y="4952880"/>
            <a:ext cx="3703680" cy="1905120"/>
          </a:xfrm>
          <a:prstGeom prst="rect">
            <a:avLst/>
          </a:prstGeom>
          <a:ln w="0">
            <a:noFill/>
          </a:ln>
        </p:spPr>
      </p:pic>
      <p:sp>
        <p:nvSpPr>
          <p:cNvPr id="687" name="TextBox 4"/>
          <p:cNvSpPr/>
          <p:nvPr/>
        </p:nvSpPr>
        <p:spPr>
          <a:xfrm>
            <a:off x="1523880" y="2819520"/>
            <a:ext cx="4267440" cy="1191240"/>
          </a:xfrm>
          <a:prstGeom prst="rect">
            <a:avLst/>
          </a:prstGeom>
          <a:solidFill>
            <a:srgbClr val="95c5b0"/>
          </a:solidFill>
          <a:ln w="25560">
            <a:solidFill>
              <a:srgbClr val="6c9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he was very involved in politics and was the first female Secretary of State. Also she fought very hard for women’s rights.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3:11:13Z</dcterms:created>
  <dc:creator>Caroline Field</dc:creator>
  <dc:description/>
  <dc:language>en-US</dc:language>
  <cp:lastModifiedBy>Caroline Field</cp:lastModifiedBy>
  <dcterms:modified xsi:type="dcterms:W3CDTF">2010-03-18T00:45:51Z</dcterms:modified>
  <cp:revision>4</cp:revision>
  <dc:subject/>
  <dc:title>Madeleine Albright</dc:title>
</cp:coreProperties>
</file>